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52F-9496-4720-A9FE-F98141D8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080-6B48-4F5B-8B8D-5373CC1C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447-AA93-405B-AA3B-FF99AA63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086-7802-4254-A7D8-A5F65E89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CE2F-45EE-4661-8024-1D693BD9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A8F2-383E-4F3B-AD77-ED021FCE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E6EC-1DBC-4419-AB88-09897ED5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3EE7-08E0-4A96-B650-D2B8C815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B6E-AA92-4202-B1A7-1A37C2C8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54F1-3831-49C7-983E-9BD1D09C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B9DC-A0F0-481A-89EC-DBF3ED08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F78-959A-4659-B8FA-FEDC774F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58F0-E875-468D-BBAD-51325B37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BDE4-1F26-4C5C-8B71-68570EE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D64D-88B3-49CA-8E01-5F0A39EA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F8C-6D62-40AE-9309-288B4BC9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5C5E-0AFA-4D6B-AA1F-AC1C5012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E3D-E85A-4C39-9014-5160770A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A2C-E11B-4146-99BB-E28C0927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0F5-10C6-4075-81D3-DCC893FD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FE8-F4D5-41F4-AD84-FABA5603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FA9-8F56-4800-B3E7-95E2A82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043-9709-46EB-ABDD-31FAB50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5EF-52C0-4395-9A1C-C96ADE7A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004F-82E5-4EE3-A54F-CE7AC9D7291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1161-E2EC-49AC-89E6-54A111B33A7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2004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Identifying Variables</a:t>
            </a: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Designing Investigation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as a controlled variabl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ame puzzl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ll of the participants were tested with the same puzzle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t would not have been a fair test if some had an easy 30 piece puzzle and some had a harder 500 piece puzzle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other example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 investigation was done with an electromagnetic system made from a battery and wire wrapped around a nail.  Different sizes of nails were used.  The number of paper clips the electromagnet could pick up was measured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are the variables in this investigati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pendent variabl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izes of nail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se were changed by the scientis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pendent variabl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mber of paper clips picked up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number of paper clips observed and counted (measured)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olled variabl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Battery, wire, type of nail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ne of these items were chang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ne more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higher the temperature of water, the faster an egg will boil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-360" y="1676160"/>
            <a:ext cx="891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ndependent variable – temperature of wat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ependent variable – time to cook an eg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ontrolled variable – type of eg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Kinds of Vari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dependent Variable – something that is changed by the scientis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tes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manipu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ast one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temperature of water was measured at different depths of a pond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0769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dependent variable – depth of the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pendent variable –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trolled variable –  thermome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igning Investig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greater the amount of soap in a soap and water mixture, the bigger a soap bubble can be blown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2127240"/>
            <a:ext cx="792324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an investigation to test this hypothes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the variab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exactly will be changed?  How will it be chang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exactly will be measured?  How will it be measur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arther a ball drops, the higher it will bounc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999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sign an investigation to test this hypothesi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dentify the variabl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at exactly will be changed?  How will it be changed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at exactly will be measured?  How will it be measured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Kinds of Vari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pendent Variable – something that might be affected by the change in the independent variabl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observ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measu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data collected during the investig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Kinds of Vari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trolled Variable – a variable that is not change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so called const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 for a “fair test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or Example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tudents of different ages were given the same jigsaw puzzle to put together.  They were timed to see how long it took to finish the puzzle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dentify the variables in this investigation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independent variabl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Ages of the stud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fferent ages were tested by the scientis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dependent variabl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ime it to put the puzzle togeth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he time was observed and measured by the scientis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2:12:20Z</dcterms:created>
  <dc:creator>Preferred Customer</dc:creator>
  <dc:description/>
  <dc:language>en-US</dc:language>
  <cp:lastModifiedBy>Mary Poarch</cp:lastModifiedBy>
  <dcterms:modified xsi:type="dcterms:W3CDTF">2005-08-22T00:44:12Z</dcterms:modified>
  <cp:revision>34</cp:revision>
  <dc:subject/>
  <dc:title>Identifying Variables</dc:title>
</cp:coreProperties>
</file>